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094-8AC5-401B-B1B6-32050C50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F65-C2E6-41DD-A713-8BE3E455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163-784A-4AC5-80BA-3F5A436E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924-A40A-451F-97CE-8A643EB1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297D-9C85-40B7-BD3B-C3139B31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FCC0-32B8-45A2-B353-BE38538A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8A6F-05DC-4328-A0DF-B6DE6F13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47AF-6E20-4C16-816D-6171F6D3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4877-A273-49FA-A09A-FD3231BC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BDB4-7E6A-49E6-BFD9-CBC575B4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12E8-6940-4336-8537-D13BAF25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233-C6EA-4B2B-9EAF-30458344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65B5-1018-402F-B861-94759758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7696-AD9E-4306-AF40-AE5CCBBE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F93A-5E18-4358-9B6B-A66DFC2D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48EE-EC1F-479B-B2B9-C004D769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B46D-AE24-4925-B042-5F30DE46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79B-A18D-4ACA-8670-E2CCD0BE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C50-2684-4D9D-B1B7-9D626E38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9C9-504E-45D1-94FB-FA5F0E48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986-902E-4ED4-84D0-551AC0DC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26E-C2D6-43B7-9455-2B1D75B4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CC5-7E56-4F19-A5DC-126CD85B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19E-F04D-4C51-AE73-98ABEF8E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A673-4B65-4D0C-B487-30F135D721F5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C4D5-6AF6-43AA-A6F0-CAD917F0CEFC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ktoprating.com/wallpapers/green-guitar-wallpaper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400" y="160200"/>
            <a:ext cx="7848720" cy="22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66"/>
                </a:solidFill>
                <a:latin typeface="Arial"/>
              </a:rPr>
              <a:t>Interfenţa undelor mecanice. Unde staţionare. Aplicaţi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rezentare  - evaluare ini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ţial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of. Berian Sergi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iceul Teologic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Baptist </a:t>
            </a:r>
            <a:r>
              <a:rPr b="0" lang="ro-RO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„Emanuel” Ora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904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838080" y="1828800"/>
            <a:ext cx="780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96666"/>
                </a:solidFill>
                <a:latin typeface="Times New Roman"/>
              </a:rPr>
              <a:t>Cum a influenţat studiul undelor evoluţia umanităţi</a:t>
            </a:r>
            <a:r>
              <a:rPr b="1" lang="en-US" sz="2800" spc="-1" strike="noStrike">
                <a:solidFill>
                  <a:srgbClr val="196666"/>
                </a:solidFill>
                <a:latin typeface="Times New Roman"/>
              </a:rPr>
              <a:t>i 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5800" y="3581280"/>
            <a:ext cx="7808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i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Cum ne afectează cutremurele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În ce măsură există în jurul nostru fenomene ondulatorii şi de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c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âte feluri sunt acestea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Cum se produc sunetele şi în ce mod le auzim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Care e efectul ultrasunetelor şi infrasunetelor asupra noastră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609480" y="1763640"/>
            <a:ext cx="82789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. În timpul propagării unei unde mecanice are loc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atât transport de energie cât şi transport de substanţă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transport de energie, fără transport de substanţă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transport de substanţă, fără transport de energi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. Daţi trei exemple de fenomene ondulatorii din natură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Consideraţii generale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312840" y="4424400"/>
            <a:ext cx="2492280" cy="1938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3048120" y="4421160"/>
            <a:ext cx="2598480" cy="194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6019920" y="4363920"/>
            <a:ext cx="219708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Tipuri de unde. Lungimea de undă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839880" y="2720880"/>
            <a:ext cx="3429000" cy="1446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6018120" y="249876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685800" y="1763640"/>
            <a:ext cx="82026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3. După orientarea oscilaţiilor în raport cu direcţia de propagare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xistă două tipuri de unde. Care sunt acestea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4. Lungimea de undă es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distanţa până la care unda ajunge la un moment dat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distanţa parcursă de undă într-un timp egal cu perioa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cil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ţie a sursei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distanţa parcursă de undă în unitatea de timp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Viteza de propagare a undei (1)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3520" y="1600200"/>
            <a:ext cx="83818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85800" y="1763640"/>
            <a:ext cx="82026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5. Formula corectă a lungimii de undă, în funcţie de frecvenţa sursei şi viteza de propagare a undei, es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1036800" y="2598840"/>
                <a:ext cx="8362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4"/>
              <p:cNvSpPr txBox="1"/>
              <p:nvPr/>
            </p:nvSpPr>
            <p:spPr>
              <a:xfrm>
                <a:off x="2932200" y="2585880"/>
                <a:ext cx="8096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6"/>
              <p:cNvSpPr txBox="1"/>
              <p:nvPr/>
            </p:nvSpPr>
            <p:spPr>
              <a:xfrm>
                <a:off x="4691160" y="2751120"/>
                <a:ext cx="1143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3"/>
          <p:cNvSpPr/>
          <p:nvPr/>
        </p:nvSpPr>
        <p:spPr>
          <a:xfrm>
            <a:off x="609480" y="4800600"/>
            <a:ext cx="82026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8" descr=""/>
          <p:cNvPicPr/>
          <p:nvPr/>
        </p:nvPicPr>
        <p:blipFill>
          <a:blip r:embed="rId1"/>
          <a:stretch/>
        </p:blipFill>
        <p:spPr>
          <a:xfrm>
            <a:off x="5931000" y="2658960"/>
            <a:ext cx="2781360" cy="2205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534960" y="4689360"/>
            <a:ext cx="82026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6. Viteza de propagare a unei unde longitudinale se calculează după formul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9"/>
              <p:cNvSpPr txBox="1"/>
              <p:nvPr/>
            </p:nvSpPr>
            <p:spPr>
              <a:xfrm>
                <a:off x="6564240" y="5276880"/>
                <a:ext cx="947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925560" y="5278320"/>
                <a:ext cx="9730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3649680" y="5472000"/>
                <a:ext cx="12175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Viteza de propagare a undei (2)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33520" y="1600200"/>
            <a:ext cx="83818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7. O undă longitudinală cu frecvenţa de 500 Hz se propagă într-un mediu elastic al cărui modul de elasticitate este E = 4,23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N/m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 Densitatea mediului are valoarea de 2700 kg/m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 Valoarea lungimii de undă es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4 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6 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8 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. 10 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33520" y="4114800"/>
            <a:ext cx="82026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8. Viteza de propagare a unei unde transversale într-o coardă elastică se calculează după formul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6311880" y="4915080"/>
                <a:ext cx="9460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833400" y="4892760"/>
                <a:ext cx="954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3622680" y="5094360"/>
                <a:ext cx="1257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Difracţia undelor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9. Difracţia undelor se explică cu ajutorul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reflexiei;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refracţiei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principiului Huygens-Fresnel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623880" y="3408480"/>
            <a:ext cx="2176560" cy="270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2755800" y="3403440"/>
            <a:ext cx="2192400" cy="27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4548240" y="3484440"/>
            <a:ext cx="39909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Reflexia şi refracţia undelor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0. Ce legătură există între reflexia undelor sonore şi ecou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1. Influenţează refracţia ultrasunetelor calitatea imaginii ecografic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2. Cum ajută reflexia undelor la orientarea liliacului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3738600" cy="243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9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38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Bibliografi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60948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Hristev, A., Mecanică şi acustică, Ed. Didactică şi Pedagogică, Bucureşti, 1982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Hristev, A., Probleme de fizică pentru clasele IX-X, Ed. Didactică şi Pedagogică, Bucureşti, 1983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onescu-Andrei, R., Onea, C., Toma, I., Manual de fizică pentru clasa a XI-a, Ed. Art, Bucureşti, 2008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www.desktoprating.com/wallpapers/green-guitar-wallpaper.ht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medishop.ro/product--Ecograf-doppler-color-portabil-Mindray-M5--192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izica.ro/textbooks/fizica11/html/1c3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izica.ro/textbooks/fizica11/html/1c10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cientia.ro/stiinta-la-minut/53-scintilatii-stiintifice/140-cum-se-formeaza-curcubeul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58:23Z</dcterms:created>
  <dc:creator>Sergiu</dc:creator>
  <dc:description/>
  <dc:language>en-US</dc:language>
  <cp:lastModifiedBy>Eu</cp:lastModifiedBy>
  <dcterms:modified xsi:type="dcterms:W3CDTF">2010-11-27T17:55:47Z</dcterms:modified>
  <cp:revision>400</cp:revision>
  <dc:subject/>
  <dc:title>Evaluare_initiala</dc:title>
</cp:coreProperties>
</file>